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D6A7-B9A0-4D8E-A3A1-6B423BD7B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A121-83CA-4395-AEDA-4B84CDE8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CFE9-31FE-43AB-8B16-13ED77AF5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32A8-0A82-46E9-B769-E857DFDB6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0259-7137-47C8-9795-E545F031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8D18-CAB4-4674-9A0D-4F645D67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A5C6-3D79-4A4E-9A7E-6AA5537B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6D8C-B535-4BA1-8755-2FBDBDBA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A8CF-BD2E-42A6-96CD-84F38AF2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F1BF-50B2-47DF-A42C-23DCB736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0650-7462-4F24-A13F-5339DBAC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68DA-BA18-4900-AA92-E9CE0D06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78D9-1D48-4D65-8E8B-6E79940815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Periods of Bible History</a:t>
            </a:r>
            <a:endParaRPr b="0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7 – Invasion and Conques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ral-southern-northern campa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13:7 divide the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21:43 </a:t>
            </a: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land promise fulfi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24:29 Joshua 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8 – Judg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 judges – Rebellion, Repression, Repentance, Resc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 Gideon and 300 men; Jephthah and daughter; Samson, Eli and wicked sons; Samu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Sam 8 – we want a king; Saul anoi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ted 350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9 – United Kingdo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ul – 1040–1000 B.C.; 1 Sam 15 – Amalek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– 1000-960 B.C.; preparation for the temple; 2 Sam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omon – 960-920(921) B.C.; temple began in 956 B.C.; wisdom, wives, id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0 – Divided Kingdo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21-721 B.C. – 200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 – north – Jereboam – 10 tribes; calves at Dan and Beth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good kings; fell to Assyria in 721 B.C.—gone for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ah – south – Rehoboam – 2 trib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zekiah king when Israel f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1 – Judah Alon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21-586 B.C. – 135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sseh evil king for 55 years; ultimate downfall of 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iah – 31 good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rusalem fell to Babylon (Nebuchadnezzar) in 586 B.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2 – Captiv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06-536 B.C. – 70 years (overla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06/605 B.C. first captivities taken; Daniel (image of Dan 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97 B.C. second captivities taken; Ezeki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86 B.C. Jerusalem fell; 2 Kings 25:21; Judah carried away cap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3 – Return from Captiv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36 B.C. – first return; decree of Cyrus king of Persia (Ezra 1: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79 B.C. - Es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8 B.C. – Ez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45-443 B.C. – Nehemiah  (Neh 2:1, 13: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3 – Return from Captiv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built walls; built temple (not like Solomon’s); restored wo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achi ends 443/432 B.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4 – Years of Silenc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inder of image of Daniel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31 B.C. – Persia f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34-323 B.C. – Alexander the G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3 B.C. – Rome took Palest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7 B.C. – Herod made king of Jud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 B.C. – Herod’s temple beg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ke 1 – silence bro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5 – Life of Chris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s of 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ning of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Galilean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s of Reti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 of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t 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rrection and Exal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Seed promise fulfi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 – Before the Floo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1 – 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2 – Adam and Eve in the ga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3 – first s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(Gen 3:15 – first promise of Se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4 – Cain and Ab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5 – generations of Ad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6 – Early Churc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s 2 – first gospel sermon; church established  (spiritual n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s 8 – Samaritans hear gos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s 10 – Cornelius, first Gentile con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s 13ff - Paul and Barnabas; gospel to Asia Minor, Greece, 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7 – Letters to the Christia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, Peter, James, Jude, Joh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 – Floo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6 – wickedness; ark bui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7 – flood beg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8 – waters rece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9 – meat for food, capital punishment, rainbow promise, Noah’s s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 – Scattering of the Peopl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11 – Plain of Shinar; Tower of Babel; confused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 – Patriarch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her ru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-5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raham, Isaac, Jacob (Isra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 12:1-3,7  promises to Abraham—Nation, Land, Seed  (Acts 3:25-2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 sons; Joseph sold into Egypt; famine; family (70) moved to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 – Exodu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0 years have passed; Pharaoh arose who did not know Joseph; made sl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es—plagues; #10 death of firstborn; cross Red Sea; travel to Mt Sinai; man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enant, Law, Priesthood, Tabernacle; </a:t>
            </a: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nation promise fulfill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 spies sent from Kadesh-Barn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 – Wanderings in the Wildernes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 14:33 sentenced to wander forty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16 – Korah, Dathan, and Abiram reb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20 – Miriam dies; sin of Moses “must we bring water”; Edom refuses passage; Aaron 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 – Wanderings in the Wildernes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21 – bronze serpent  (John 3:1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22 – Balaam and Bar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26 – second census; all over 20 years old had died except Joshua and Cal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27 – Joshua appointed; Moses dies; ready to enter the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7 – Invasion and Conques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3 – cross Jord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5 – circumcision; manna st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6 – Jeric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7-8 – 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9 – Gibeon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8T01:39:57Z</dcterms:created>
  <dc:creator>Wayne Holt</dc:creator>
  <dc:description/>
  <dc:language>en-US</dc:language>
  <cp:lastModifiedBy>Wayne Holt</cp:lastModifiedBy>
  <dcterms:modified xsi:type="dcterms:W3CDTF">2002-08-25T19:31:33Z</dcterms:modified>
  <cp:revision>6</cp:revision>
  <dc:subject/>
  <dc:title>1 – Before the Flood</dc:title>
</cp:coreProperties>
</file>